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360"/>
            <a:ext cx="300528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29040" y="-360"/>
            <a:ext cx="300528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9700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9" name="PlaceHolder 4"/>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0" y="8626320"/>
            <a:ext cx="3005280" cy="454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29040" y="8626320"/>
            <a:ext cx="3005280" cy="454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CE53-7D4D-4F47-A593-6401E5D61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 Target="../slides/slide13.xml"/><Relationship Id="rId5"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97000" y="681120"/>
            <a:ext cx="4540320" cy="3405240"/>
          </a:xfrm>
          <a:prstGeom prst="rect">
            <a:avLst/>
          </a:prstGeom>
          <a:ln w="0">
            <a:noFill/>
          </a:ln>
        </p:spPr>
      </p:sp>
      <p:sp>
        <p:nvSpPr>
          <p:cNvPr id="288"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zimuth pattern of the Spitfire is now compared to the “dream” 4-square (at 25 degrees elevation angle).  The 4-square provides about a half dB additional gain in the forward direction and somewhat better rejection to the rear, but the Spitfire comes within spitting distance of i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97000" y="681120"/>
            <a:ext cx="4540320" cy="3405240"/>
          </a:xfrm>
          <a:prstGeom prst="rect">
            <a:avLst/>
          </a:prstGeom>
          <a:ln w="0">
            <a:noFill/>
          </a:ln>
        </p:spPr>
      </p:sp>
      <p:sp>
        <p:nvSpPr>
          <p:cNvPr id="290"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asitic elements needed to be carefully tuned to the proper resonant frequencies.  Simply cutting the lengths according to formula or to the dimensions in the computer model is not accurate enough in the real world, when considerations such as the velocity factor of insulated wire and environmental effects are taken into account.  We strongly recommended direct measurement of the resonance frequency of the director and reflector.  To do this, the corner of each element is temporarily opened and an antenna analyzer (such as the MFJ-259, which we used) is inserted at this point.  By injecting RF into the element with the analyzer and measuring the SWR vs. frequency, the resonance can be determined at the point of minimum SWR.  The lengths of the horizontal director and reflector segments are pruned to the resonant frequencies determined by the computer model: 2.00 MHz for the director and 1.90 MHz for the reflector.  (The high resonant frequency of the reflector may seem odd, but appears to be a consequence of the sloping geometry of the element).  While tuning one element,  it is important that the the tower and the other parasitic element not couple and corrupt the measurement.  (We are measuring self-resonance of the element, not mutual coupling resonance).  To do this the tower is electrically opened from ground at its base, and the other parasitic elements are best lowered or removed completely during tuneu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97000" y="681120"/>
            <a:ext cx="4540320" cy="3405240"/>
          </a:xfrm>
          <a:prstGeom prst="rect">
            <a:avLst/>
          </a:prstGeom>
          <a:ln w="0">
            <a:noFill/>
          </a:ln>
        </p:spPr>
      </p:sp>
      <p:sp>
        <p:nvSpPr>
          <p:cNvPr id="292"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s list for upgrading one’s existing tower system to a full 4-quadrant Spitfire array is given.  No expensive or exotic materials are requir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1062000" y="3895560"/>
            <a:ext cx="187200" cy="27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075680" y="4425840"/>
            <a:ext cx="5212800" cy="17366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tfire array as adapted to  K1VR’s 100-foot tower is shown.  To enhan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ility, the wire parasitic elements have been colored over in red. The wir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are actually suspended from the 90-foot point because of the  40-meter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above.  The loading effect of the various beams results in the tower by itself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nating under 1.5 MHz, but doesn’t preclude the array from working FB!  Th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er is fed via a gamma shunt feed system which taps the tower around the 8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t point.  The gamma “rod’ is barely visible in this photo on the right side of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wer.   About 60 quarter-wave radials are installed on the ground under th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er.</a:t>
            </a:r>
            <a:endParaRPr b="0" lang="en-US" sz="1200" spc="-1" strike="noStrike">
              <a:solidFill>
                <a:srgbClr val="000000"/>
              </a:solidFill>
              <a:latin typeface="Times New Roman"/>
            </a:endParaRPr>
          </a:p>
        </p:txBody>
      </p:sp>
      <p:pic>
        <p:nvPicPr>
          <p:cNvPr id="295" name="JAKE1" descr=""/>
          <p:cNvPicPr/>
          <p:nvPr/>
        </p:nvPicPr>
        <p:blipFill>
          <a:blip r:embed="rId1"/>
          <a:stretch/>
        </p:blipFill>
        <p:spPr>
          <a:xfrm>
            <a:off x="2630520" y="1325520"/>
            <a:ext cx="1855800" cy="2606760"/>
          </a:xfrm>
          <a:prstGeom prst="rect">
            <a:avLst/>
          </a:prstGeom>
          <a:ln w="0">
            <a:noFill/>
          </a:ln>
        </p:spPr>
      </p:pic>
      <p:sp>
        <p:nvSpPr>
          <p:cNvPr id="296" name=""/>
          <p:cNvSpPr/>
          <p:nvPr/>
        </p:nvSpPr>
        <p:spPr>
          <a:xfrm>
            <a:off x="1084320" y="662040"/>
            <a:ext cx="4797360" cy="340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084320" y="1184400"/>
            <a:ext cx="4794120" cy="36360"/>
          </a:xfrm>
          <a:prstGeom prst="rect">
            <a:avLst/>
          </a:prstGeom>
          <a:solidFill>
            <a:srgbClr val="3333cc"/>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298" name=""/>
          <p:cNvGrpSpPr/>
          <p:nvPr/>
        </p:nvGrpSpPr>
        <p:grpSpPr>
          <a:xfrm>
            <a:off x="5372280" y="981000"/>
            <a:ext cx="423720" cy="368640"/>
            <a:chOff x="5372280" y="981000"/>
            <a:chExt cx="423720" cy="368640"/>
          </a:xfrm>
        </p:grpSpPr>
        <p:sp>
          <p:nvSpPr>
            <p:cNvPr id="299" name=""/>
            <p:cNvSpPr/>
            <p:nvPr/>
          </p:nvSpPr>
          <p:spPr>
            <a:xfrm>
              <a:off x="5372280" y="981000"/>
              <a:ext cx="42372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377680" y="1072800"/>
              <a:ext cx="392760" cy="276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cc"/>
                  </a:solidFill>
                  <a:latin typeface="Arial"/>
                </a:rPr>
                <a:t>W1</a:t>
              </a:r>
              <a:r>
                <a:rPr b="1" lang="en-US" sz="600" spc="-1" strike="noStrike">
                  <a:solidFill>
                    <a:srgbClr val="ff0000"/>
                  </a:solidFill>
                  <a:latin typeface="Arial"/>
                </a:rPr>
                <a:t>FV</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cc"/>
                  </a:solidFill>
                  <a:latin typeface="Arial"/>
                </a:rPr>
                <a:t>K1V</a:t>
              </a:r>
              <a:r>
                <a:rPr b="1" lang="en-US" sz="600" spc="-1" strike="noStrike">
                  <a:solidFill>
                    <a:srgbClr val="ff0000"/>
                  </a:solidFill>
                  <a:latin typeface="Arial"/>
                </a:rPr>
                <a:t>R</a:t>
              </a:r>
              <a:endParaRPr b="0" lang="en-US" sz="600" spc="-1" strike="noStrike">
                <a:solidFill>
                  <a:srgbClr val="000000"/>
                </a:solidFill>
                <a:latin typeface="Times New Roman"/>
              </a:endParaRPr>
            </a:p>
          </p:txBody>
        </p:sp>
      </p:grpSp>
      <p:graphicFrame>
        <p:nvGraphicFramePr>
          <p:cNvPr id="301" name=""/>
          <p:cNvGraphicFramePr/>
          <p:nvPr/>
        </p:nvGraphicFramePr>
        <p:xfrm>
          <a:off x="1204920" y="736560"/>
          <a:ext cx="614520" cy="417600"/>
        </p:xfrm>
        <a:graphic>
          <a:graphicData uri="http://schemas.openxmlformats.org/presentationml/2006/ole">
            <p:oleObj r:id="rId2" spid="">
              <p:embed/>
              <p:pic>
                <p:nvPicPr>
                  <p:cNvPr id="302" name="" descr=""/>
                  <p:cNvPicPr/>
                  <p:nvPr/>
                </p:nvPicPr>
                <p:blipFill>
                  <a:blip r:embed="rId3"/>
                  <a:stretch/>
                </p:blipFill>
                <p:spPr>
                  <a:xfrm>
                    <a:off x="1204920" y="736560"/>
                    <a:ext cx="614520" cy="417600"/>
                  </a:xfrm>
                  <a:prstGeom prst="rect">
                    <a:avLst/>
                  </a:prstGeom>
                  <a:ln w="0">
                    <a:noFill/>
                  </a:ln>
                </p:spPr>
              </p:pic>
            </p:oleObj>
          </a:graphicData>
        </a:graphic>
      </p:graphicFrame>
      <p:sp>
        <p:nvSpPr>
          <p:cNvPr id="303" name=""/>
          <p:cNvSpPr/>
          <p:nvPr/>
        </p:nvSpPr>
        <p:spPr>
          <a:xfrm>
            <a:off x="2342520" y="801720"/>
            <a:ext cx="242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1VR Spitfire Installation</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97000" y="681120"/>
            <a:ext cx="4540320" cy="3405240"/>
          </a:xfrm>
          <a:prstGeom prst="rect">
            <a:avLst/>
          </a:prstGeom>
          <a:ln w="0">
            <a:noFill/>
          </a:ln>
        </p:spPr>
      </p:sp>
      <p:sp>
        <p:nvSpPr>
          <p:cNvPr id="305"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ing relays are enclosed in a watertight plastic food container which is mounted to a wood post support.  The posts used are pressure-treated  2”x4”x16’ planks which are sunk about 3 feet into the ground.  The connections to the relay box, at about the 10 foot level above ground, are made via feedthrough insulators mounted on the box.</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97000" y="681120"/>
            <a:ext cx="4540320" cy="3405240"/>
          </a:xfrm>
          <a:prstGeom prst="rect">
            <a:avLst/>
          </a:prstGeom>
          <a:ln w="0">
            <a:noFill/>
          </a:ln>
        </p:spPr>
      </p:sp>
      <p:sp>
        <p:nvSpPr>
          <p:cNvPr id="307"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tfire array is a flexible design which has a number of installation possibilities.  We have already discussed the 2- and 4-direction versions.   Computer modeling indicates that the concept works well over a wide range of tower heights.  Resonance of the tower on 160 is not a prerequisite for good performance.  The design has been applied to the 100 foot loaded tower at K1VR and modeling with towers as tall as 180 feet indicates excellent results, too.  The folding geometry of the wings is simply modified for different tower heights.  We also have scaled the design to 80 and 40 meter versions.  Another variant, which may be of interest to those who are space-challenged, uses just one parasitic wing element and is under development.  Finally, for those who are seeking the “ultimate”, even more gain can be obtained by phased arrays of Spitfir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97000" y="681120"/>
            <a:ext cx="4540320" cy="3405240"/>
          </a:xfrm>
          <a:prstGeom prst="rect">
            <a:avLst/>
          </a:prstGeom>
          <a:ln w="0">
            <a:noFill/>
          </a:ln>
        </p:spPr>
      </p:sp>
      <p:sp>
        <p:nvSpPr>
          <p:cNvPr id="309"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wo towers spaced between one-half and five-eighths of a wavelength apart (spacing not critical), a broadside array of two identical Spitfires can be constructed, as shown in the figure.  Both Spitfires are fed in phase from a coax T.  The maximum gain is broadside to the array and it can be switched in the forward and rear directions.  This array provides almost 3 dB additional gain over a single Spitfire.  Note that end-fire operation is also possible, using the in-plane parasitic wings (not shown in the figure above) of a 4-wing Spitfire and using 180 degree phasing, with a half-wave coaxial delay line.  The end-fire array provides about 1 dB less gain than the broadside version. Selectable broadside and end-fire modes of operation allows a 2-tower system to cover 4 quadra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97000" y="681120"/>
            <a:ext cx="4540320" cy="3405240"/>
          </a:xfrm>
          <a:prstGeom prst="rect">
            <a:avLst/>
          </a:prstGeom>
          <a:ln w="0">
            <a:noFill/>
          </a:ln>
        </p:spPr>
      </p:sp>
      <p:sp>
        <p:nvSpPr>
          <p:cNvPr id="311"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d azimuth pattern of the broadside array (at 25 degrees elevation) is shown and compared to the single Spitfire.  A consequence of the increased gain is the narrowing of the forward lobe.  Rejection off the sides of the array also increases significantly, with some minor lobes remaining to the sides and rea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97000" y="681120"/>
            <a:ext cx="4540320" cy="3405240"/>
          </a:xfrm>
          <a:prstGeom prst="rect">
            <a:avLst/>
          </a:prstGeom>
          <a:ln w="0">
            <a:noFill/>
          </a:ln>
        </p:spPr>
      </p:sp>
      <p:sp>
        <p:nvSpPr>
          <p:cNvPr id="313"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2-direction Spitfire has been up and running at K1VR since December 1997.    Based on the very encouraging results obtained so far, we are ready to proceed with upgrading to a full 4-direction configuration soon.  We have learned that the biggest technical challenge is the need to carefully tune the parasitic elements to resonance, for the reasons discussed earlier. The main obstacle to perfect tuning appears to be the residual unwanted coupling of the tower and other element during the resonance-measuring procedure.  We are still in the process of perfecting the setup.  At this point, we see about 1 S-unit of gain over just the tower fed as a single vertical.  The observed F/B on DX signals is about 3 to 4 S-units, or around 15 dB, and could be improved with more fine tuning (although we don’t expect the gain to be improved much).  Does it work?  Well...the first DX QSO with the new array on 160 meters was VK6HD on long path at local sunset.  Generating runs of Europeans is easy.  There is little or no waiting in line to work DX.  In summary, the Spitfire appears to be the most effective DX antenna yet on 160 at K1VR.  Look for a future article on the Spitfire in one of the amateur magazin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97000" y="681120"/>
            <a:ext cx="4540320" cy="3405240"/>
          </a:xfrm>
          <a:prstGeom prst="rect">
            <a:avLst/>
          </a:prstGeom>
          <a:ln w="0">
            <a:noFill/>
          </a:ln>
        </p:spPr>
      </p:sp>
      <p:sp>
        <p:nvSpPr>
          <p:cNvPr id="272"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you already have a tower already being fed as a single vertical on 160.  How do you get more gain?  Most people’s dream is the 4-square which yields an additional 5.5 dB of gain over one vertical.  However, as you can see in the figure, the 4-square uses a lot of real estate--remember to consider the space needed for radials!  It also requires four towers, or the at least the ability to support four verticals.  A number of hams, some of whose calls are indicated in the chart, have devised alternative concepts, using tower supported wire  verticals, parasitic arrays of some kind, inverted L elements, or slopers, all of which are simpler to erect than a full-size 4-square.  We present another alternative--the FVR Spitifire array--which comes close to the performance of the 4-square, but is much more compact and can be erected in essentially the same space already occupied by the single vertical and its radials.  Furthermore, the incremental cost of upgrading your tower to a Spitfire array is quite sma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97000" y="681120"/>
            <a:ext cx="4540320" cy="3405240"/>
          </a:xfrm>
          <a:prstGeom prst="rect">
            <a:avLst/>
          </a:prstGeom>
          <a:ln w="0">
            <a:noFill/>
          </a:ln>
        </p:spPr>
      </p:sp>
      <p:sp>
        <p:nvSpPr>
          <p:cNvPr id="274"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tfire is a parasitic array which uses a conventional grounded quarter-wave tower as the driven element and adds a parasitic reflector and director.   What is unique about this array is that the parasitic elements are sized to be half-wave elements which are not grounded, unlike previous concepts where all the elements are grounded.  As shown in the figure, the elements are folded at their ends to meet the length requirements. The advantage of ungrounded elements is that they do not use or need a ground radial system to provide a current return path.  This avoids a downfall of parasitic verticals with grounded elements, which can be demonstrated in a computer modeling program. That is that the real gain of grounded parasitic arrays quickly erodes when ground losses are present because the losses prevent the proper current distributions from being induced in the parasitic elements.  The Spitfire does use a conventional quarter-wave radial system under the driven element tower. The bottoms of the parasitic elements are about 10 feet above ground.  This distance is high enough for safety but low enough for doing necessary work. The only critical dimension in the Spitfire array is the distance from the tower to the ends of the parasitic elements.  It was determined empirically through computer modeling that the distance which maximizes F/B is exactly one quarter wavelength as shown in the figure. (Gain is not particularly sensitive to that spacing).  The configuration shown provides 2 switching directions (forward and rear).  We will show how to turn it into a full 4 quadrant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97000" y="681120"/>
            <a:ext cx="4540320" cy="3405240"/>
          </a:xfrm>
          <a:prstGeom prst="rect">
            <a:avLst/>
          </a:prstGeom>
          <a:ln w="0">
            <a:noFill/>
          </a:ln>
        </p:spPr>
      </p:sp>
      <p:sp>
        <p:nvSpPr>
          <p:cNvPr id="276"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 switching is accomplished by simple relay switching which adds in a length of wire along the lower horizontal portion of the parasitic element to change it from a director to reflector or vice versa.  One relay is closed while the other is open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97000" y="681120"/>
            <a:ext cx="4540320" cy="3405240"/>
          </a:xfrm>
          <a:prstGeom prst="rect">
            <a:avLst/>
          </a:prstGeom>
          <a:ln w="0">
            <a:noFill/>
          </a:ln>
        </p:spPr>
      </p:sp>
      <p:sp>
        <p:nvSpPr>
          <p:cNvPr id="278"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traightforward to configure the Spitfire as a full 4-quadrant system.  Two more parasitic “wings” are added perpendicular to the two which were shown earlier.  The system operates with two of the four parasitics wires “active” at one time.   The remaining two wires, off to the sides, are detuned by grounding them so that they do not couple into the system.  (It was determined through computer modeling that trying to make use of all four parasitic elements at a time did not improve upon using just the two).  The tower is always active as the driven element.  To beam in direction 1, element 1 is configured as a director and element 2 as a reflector.  Elements 3 and 4 are grounded.  To switch to direction 3, elements 1 and 2 would be grounded, and elements 3 and 4 are ungrounded with number 3 being the director and 4 the reflector.  In this manner, the four switching directions shown in the figure can be provided.  The entire array fits in the same real estate as occupied by the quarter wave radials under the tow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97000" y="681120"/>
            <a:ext cx="4540320" cy="3405240"/>
          </a:xfrm>
          <a:prstGeom prst="rect">
            <a:avLst/>
          </a:prstGeom>
          <a:ln w="0">
            <a:noFill/>
          </a:ln>
        </p:spPr>
      </p:sp>
      <p:sp>
        <p:nvSpPr>
          <p:cNvPr id="280"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itfire array was developed through extensive computer modeling with the popular EZNEC software.  The plot shows the elevation pattern of the Spitfire array compared to a single vertical.  At low elevation angles, the gain over the single vertical is about 5 dB.  Note that the vertical plane lobe is quite “fat” and provides significant higher angle radiation where the single vertical does not.  This attribute may actually prove to be advantageous for DX under the high-angle propagation conditions which are believed to predominate at times over low angles on 160 met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97000" y="681120"/>
            <a:ext cx="4540320" cy="3405240"/>
          </a:xfrm>
          <a:prstGeom prst="rect">
            <a:avLst/>
          </a:prstGeom>
          <a:ln w="0">
            <a:noFill/>
          </a:ln>
        </p:spPr>
      </p:sp>
      <p:sp>
        <p:nvSpPr>
          <p:cNvPr id="282"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zimuth pattern, taken at an elevation angle of 25 degrees is shown and compared with the omnidirectional vertical.  The theoretical F/B approaches 30 dB at the design frequenc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97000" y="681120"/>
            <a:ext cx="4540320" cy="3405240"/>
          </a:xfrm>
          <a:prstGeom prst="rect">
            <a:avLst/>
          </a:prstGeom>
          <a:ln w="0">
            <a:noFill/>
          </a:ln>
        </p:spPr>
      </p:sp>
      <p:sp>
        <p:nvSpPr>
          <p:cNvPr id="284"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d gain is shown across the entire 160 meter band.  The design frequency is around 1830 kHz.  The gain holds up well from the low end of the band up to the “JA window”, and drops off sharply above that.  For reference, the gain of a single vertical (some 5 dB less) is also show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97000" y="681120"/>
            <a:ext cx="4540320" cy="3405240"/>
          </a:xfrm>
          <a:prstGeom prst="rect">
            <a:avLst/>
          </a:prstGeom>
          <a:ln w="0">
            <a:noFill/>
          </a:ln>
        </p:spPr>
      </p:sp>
      <p:sp>
        <p:nvSpPr>
          <p:cNvPr id="286" name="PlaceHolder 2"/>
          <p:cNvSpPr>
            <a:spLocks noGrp="1"/>
          </p:cNvSpPr>
          <p:nvPr>
            <p:ph type="body"/>
          </p:nvPr>
        </p:nvSpPr>
        <p:spPr>
          <a:xfrm>
            <a:off x="923400" y="4312800"/>
            <a:ext cx="5086440" cy="4086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d front-to-back ratio is plotted.  The F/B peaks at nearly 30 dB at the design frequency, but exhibits a fairly narrowband characteristic, unlike the gain.  This suggests that tuning of the array to achieve this theoretical F/B will be fairly critical.  The turnaround in F/B near the high end of the band (2 MHz) does not have much significance since the radiation pattern becomes badly distorted and the gain in this region drops below 0 dB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BF8EF-6B3E-43B8-9E41-04C1D53618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60812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685800" y="3757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64CAD45-81A5-4810-8BC0-F71D237B68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68580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6848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85800" y="3757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68480" y="3757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02FE2FE7-CD9F-41F6-9699-4B995F93A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2"/>
          <p:cNvSpPr>
            <a:spLocks noGrp="1"/>
          </p:cNvSpPr>
          <p:nvPr>
            <p:ph/>
          </p:nvPr>
        </p:nvSpPr>
        <p:spPr>
          <a:xfrm>
            <a:off x="685800" y="160812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313800" y="160812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5941440" y="160812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685800" y="3757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313800" y="3757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5941440" y="3757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930492BC-0A0F-4019-BBF7-BA496FAD71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type="subTitle"/>
          </p:nvPr>
        </p:nvSpPr>
        <p:spPr>
          <a:xfrm>
            <a:off x="685800" y="160812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D8D569D-6169-4BFF-BC18-6BC0E7AB5F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685800" y="160812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B579980-7722-42FC-B635-D1BC786B1D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685800" y="16081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68480" y="16081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61CF39AE-C5EE-4ECB-A930-A50F8F826B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CC3A27-63BB-4C86-9A9D-68493E53D9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7164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BC4474E9-994C-4E99-BFD0-A5C049DB2C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68580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6081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685800" y="3757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AB9F6F9-979B-4A7A-9909-2CBECC3EA6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685800" y="16081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68480" y="3757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D96E7B7-065B-433D-A201-90D4482E7E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68580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68480" y="16081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685800" y="3757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1847DAD-87F1-4FAA-B472-5366F266A0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85800" y="16081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yton ‘98-</a:t>
            </a:r>
            <a:fld id="{C17BE86A-D6CA-4DA3-99B4-8A3242BA1EE5}"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0" y="1036800"/>
            <a:ext cx="9144000" cy="74520"/>
          </a:xfrm>
          <a:prstGeom prst="rect">
            <a:avLst/>
          </a:prstGeom>
          <a:solidFill>
            <a:srgbClr val="3333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4" name=""/>
          <p:cNvGrpSpPr/>
          <p:nvPr/>
        </p:nvGrpSpPr>
        <p:grpSpPr>
          <a:xfrm>
            <a:off x="8188200" y="801720"/>
            <a:ext cx="806400" cy="533520"/>
            <a:chOff x="8188200" y="801720"/>
            <a:chExt cx="806400" cy="533520"/>
          </a:xfrm>
        </p:grpSpPr>
        <p:sp>
          <p:nvSpPr>
            <p:cNvPr id="5" name=""/>
            <p:cNvSpPr/>
            <p:nvPr/>
          </p:nvSpPr>
          <p:spPr>
            <a:xfrm>
              <a:off x="8188200" y="801720"/>
              <a:ext cx="8064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77120" y="836640"/>
              <a:ext cx="60444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W1</a:t>
              </a:r>
              <a:r>
                <a:rPr b="1" lang="en-US" sz="1200" spc="-1" strike="noStrike">
                  <a:solidFill>
                    <a:srgbClr val="ff0000"/>
                  </a:solidFill>
                  <a:latin typeface="Arial"/>
                </a:rPr>
                <a:t>F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K1V</a:t>
              </a:r>
              <a:r>
                <a:rPr b="1" lang="en-US" sz="1200" spc="-1" strike="noStrike">
                  <a:solidFill>
                    <a:srgbClr val="ff0000"/>
                  </a:solidFill>
                  <a:latin typeface="Arial"/>
                </a:rPr>
                <a:t>R</a:t>
              </a:r>
              <a:endParaRPr b="0" lang="en-US" sz="1200" spc="-1" strike="noStrike">
                <a:solidFill>
                  <a:srgbClr val="000000"/>
                </a:solidFill>
                <a:latin typeface="Times New Roman"/>
              </a:endParaRPr>
            </a:p>
          </p:txBody>
        </p:sp>
      </p:grpSp>
      <p:graphicFrame>
        <p:nvGraphicFramePr>
          <p:cNvPr id="7" name=""/>
          <p:cNvGraphicFramePr/>
          <p:nvPr/>
        </p:nvGraphicFramePr>
        <p:xfrm>
          <a:off x="235080" y="109440"/>
          <a:ext cx="1170000" cy="862200"/>
        </p:xfrm>
        <a:graphic>
          <a:graphicData uri="http://schemas.openxmlformats.org/presentationml/2006/ole">
            <p:oleObj r:id="rId2" spid="">
              <p:embed/>
              <p:pic>
                <p:nvPicPr>
                  <p:cNvPr id="8" name="" descr=""/>
                  <p:cNvPicPr/>
                  <p:nvPr/>
                </p:nvPicPr>
                <p:blipFill>
                  <a:blip r:embed="rId3"/>
                  <a:stretch/>
                </p:blipFill>
                <p:spPr>
                  <a:xfrm>
                    <a:off x="235080" y="109440"/>
                    <a:ext cx="1170000" cy="862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VR Spitfire Array</a:t>
            </a:r>
            <a:br>
              <a:rPr sz="3200"/>
            </a:br>
            <a:br>
              <a:rPr sz="3200"/>
            </a:br>
            <a:r>
              <a:rPr b="1" lang="en-US" sz="2800" spc="-1" strike="noStrike">
                <a:solidFill>
                  <a:srgbClr val="000000"/>
                </a:solidFill>
                <a:latin typeface="Arial"/>
              </a:rPr>
              <a:t>(</a:t>
            </a:r>
            <a:r>
              <a:rPr b="1" i="1" lang="en-US" sz="2800" spc="-1" strike="noStrike">
                <a:solidFill>
                  <a:srgbClr val="000000"/>
                </a:solidFill>
                <a:latin typeface="Arial"/>
              </a:rPr>
              <a:t>A “poor man’s 4-square” for Top Band</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53" name="PlaceHolder 2"/>
          <p:cNvSpPr>
            <a:spLocks noGrp="1"/>
          </p:cNvSpPr>
          <p:nvPr>
            <p:ph type="subTitle"/>
          </p:nvPr>
        </p:nvSpPr>
        <p:spPr>
          <a:xfrm>
            <a:off x="1303200" y="42991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Kaufmann W1FV</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d Hopengarten K1V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pyright 1998 W1FV and K1VR.  All rights reserved.  May not be</a:t>
            </a:r>
            <a:endParaRPr b="1"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roduced in any form without permission.  So please ask!</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7B343CD3-DB51-4FA6-AE3B-34F60DAB98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tfire vs. 4-square</a:t>
            </a:r>
            <a:endParaRPr b="1" lang="en-US" sz="2800" spc="-1" strike="noStrike">
              <a:solidFill>
                <a:srgbClr val="000000"/>
              </a:solidFill>
              <a:latin typeface="Arial"/>
            </a:endParaRPr>
          </a:p>
        </p:txBody>
      </p:sp>
      <p:pic>
        <p:nvPicPr>
          <p:cNvPr id="198" name="" descr=""/>
          <p:cNvPicPr/>
          <p:nvPr/>
        </p:nvPicPr>
        <p:blipFill>
          <a:blip r:embed="rId1"/>
          <a:stretch/>
        </p:blipFill>
        <p:spPr>
          <a:xfrm>
            <a:off x="1484280" y="1352520"/>
            <a:ext cx="6362640" cy="4770360"/>
          </a:xfrm>
          <a:prstGeom prst="rect">
            <a:avLst/>
          </a:prstGeom>
          <a:ln w="0">
            <a:noFill/>
          </a:ln>
        </p:spPr>
      </p:pic>
      <p:sp>
        <p:nvSpPr>
          <p:cNvPr id="199" name=""/>
          <p:cNvSpPr/>
          <p:nvPr/>
        </p:nvSpPr>
        <p:spPr>
          <a:xfrm>
            <a:off x="3675240" y="2541600"/>
            <a:ext cx="757080" cy="3142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421080" y="4722480"/>
            <a:ext cx="771480" cy="1825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609640" y="227160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4-square</a:t>
            </a:r>
            <a:endParaRPr b="0" lang="en-US" sz="1800" spc="-1" strike="noStrike">
              <a:solidFill>
                <a:srgbClr val="000000"/>
              </a:solidFill>
              <a:latin typeface="Times New Roman"/>
            </a:endParaRPr>
          </a:p>
        </p:txBody>
      </p:sp>
      <p:sp>
        <p:nvSpPr>
          <p:cNvPr id="202" name=""/>
          <p:cNvSpPr/>
          <p:nvPr/>
        </p:nvSpPr>
        <p:spPr>
          <a:xfrm>
            <a:off x="2548440" y="47052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pitfi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EC00103-E038-48AD-B4C1-C56CA1D1C5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c Element Tuning Procedure</a:t>
            </a:r>
            <a:endParaRPr b="1" lang="en-US" sz="2800" spc="-1" strike="noStrike">
              <a:solidFill>
                <a:srgbClr val="000000"/>
              </a:solidFill>
              <a:latin typeface="Arial"/>
            </a:endParaRPr>
          </a:p>
        </p:txBody>
      </p:sp>
      <p:sp>
        <p:nvSpPr>
          <p:cNvPr id="204" name=""/>
          <p:cNvSpPr/>
          <p:nvPr/>
        </p:nvSpPr>
        <p:spPr>
          <a:xfrm flipH="1">
            <a:off x="3125880" y="1276200"/>
            <a:ext cx="1866960" cy="225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3209760" y="3598920"/>
            <a:ext cx="1044720" cy="792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6" name=""/>
          <p:cNvSpPr/>
          <p:nvPr/>
        </p:nvSpPr>
        <p:spPr>
          <a:xfrm>
            <a:off x="6583320" y="1227240"/>
            <a:ext cx="177840" cy="3517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499000" y="3575160"/>
            <a:ext cx="133560" cy="66600"/>
          </a:xfrm>
          <a:prstGeom prst="ellipse">
            <a:avLst/>
          </a:prstGeom>
          <a:noFill/>
          <a:ln w="2844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08" name=""/>
          <p:cNvSpPr/>
          <p:nvPr/>
        </p:nvSpPr>
        <p:spPr>
          <a:xfrm>
            <a:off x="5640480" y="3602160"/>
            <a:ext cx="96048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114080" y="368928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y</a:t>
            </a:r>
            <a:endParaRPr b="0" lang="en-US" sz="1800" spc="-1" strike="noStrike">
              <a:solidFill>
                <a:srgbClr val="000000"/>
              </a:solidFill>
              <a:latin typeface="Times New Roman"/>
            </a:endParaRPr>
          </a:p>
        </p:txBody>
      </p:sp>
      <p:sp>
        <p:nvSpPr>
          <p:cNvPr id="210" name=""/>
          <p:cNvSpPr/>
          <p:nvPr/>
        </p:nvSpPr>
        <p:spPr>
          <a:xfrm flipV="1">
            <a:off x="5095800" y="4263840"/>
            <a:ext cx="2873520" cy="97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442120" y="4332240"/>
            <a:ext cx="2639880" cy="80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436800" y="4164120"/>
            <a:ext cx="435240" cy="11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341240" y="2476440"/>
            <a:ext cx="2096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ed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or segment</a:t>
            </a:r>
            <a:endParaRPr b="0" lang="en-US" sz="1800" spc="-1" strike="noStrike">
              <a:solidFill>
                <a:srgbClr val="000000"/>
              </a:solidFill>
              <a:latin typeface="Times New Roman"/>
            </a:endParaRPr>
          </a:p>
        </p:txBody>
      </p:sp>
      <p:sp>
        <p:nvSpPr>
          <p:cNvPr id="214" name=""/>
          <p:cNvSpPr/>
          <p:nvPr/>
        </p:nvSpPr>
        <p:spPr>
          <a:xfrm flipH="1">
            <a:off x="5117760" y="3159000"/>
            <a:ext cx="290520" cy="39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59160" y="3564000"/>
            <a:ext cx="79560" cy="77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4611600" y="3564000"/>
            <a:ext cx="77760" cy="77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flipV="1">
            <a:off x="4349880" y="3430080"/>
            <a:ext cx="290520" cy="14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686480" y="3606840"/>
            <a:ext cx="80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2952000" y="3535200"/>
            <a:ext cx="358200" cy="631800"/>
          </a:xfrm>
          <a:custGeom>
            <a:avLst/>
            <a:gdLst/>
            <a:ahLst/>
            <a:rect l="l" t="t" r="r" b="b"/>
            <a:pathLst>
              <a:path stroke="0" w="21600" h="21600">
                <a:moveTo>
                  <a:pt x="10800" y="0"/>
                </a:moveTo>
                <a:arcTo wR="10800" hR="10800" stAng="-5400000" swAng="5251436"/>
                <a:lnTo>
                  <a:pt x="10800" y="10800"/>
                </a:lnTo>
                <a:close/>
              </a:path>
              <a:path fill="none" w="21600" h="21600">
                <a:moveTo>
                  <a:pt x="10800" y="0"/>
                </a:moveTo>
                <a:arcTo wR="10800" hR="10800" stAng="-5400000" swAng="5251436"/>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3054240" y="3598920"/>
            <a:ext cx="399600" cy="47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87680" y="3786120"/>
            <a:ext cx="815760" cy="5000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en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r</a:t>
            </a:r>
            <a:endParaRPr b="0" lang="en-US" sz="1200" spc="-1" strike="noStrike">
              <a:solidFill>
                <a:srgbClr val="000000"/>
              </a:solidFill>
              <a:latin typeface="Times New Roman"/>
            </a:endParaRPr>
          </a:p>
        </p:txBody>
      </p:sp>
      <p:sp>
        <p:nvSpPr>
          <p:cNvPr id="222" name=""/>
          <p:cNvSpPr/>
          <p:nvPr/>
        </p:nvSpPr>
        <p:spPr>
          <a:xfrm>
            <a:off x="354240" y="4514760"/>
            <a:ext cx="59623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utting parasitic element lengths to formula n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curate enough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asure and prune parasitic elements to reson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 antenna analyzer (MFJ-259, etc.)</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 elements must be decoupled during tuneup</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rector resonance @ 2.00 MHz</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flector resonance @ 1.90 MH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EFEC6BC-4350-4C68-BEA5-482A57AD65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s List</a:t>
            </a:r>
            <a:endParaRPr b="1" lang="en-US" sz="2800" spc="-1" strike="noStrike">
              <a:solidFill>
                <a:srgbClr val="000000"/>
              </a:solidFill>
              <a:latin typeface="Arial"/>
            </a:endParaRPr>
          </a:p>
        </p:txBody>
      </p:sp>
      <p:sp>
        <p:nvSpPr>
          <p:cNvPr id="224" name="PlaceHolder 2"/>
          <p:cNvSpPr>
            <a:spLocks noGrp="1"/>
          </p:cNvSpPr>
          <p:nvPr>
            <p:ph/>
          </p:nvPr>
        </p:nvSpPr>
        <p:spPr>
          <a:xfrm>
            <a:off x="685800" y="16081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 ft wire (#12 THH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 insulato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DPDT relay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2”x4”x16’ wood pos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p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 control cabl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equipment: antenna analyz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cost = </a:t>
            </a:r>
            <a:r>
              <a:rPr b="1" i="1" lang="en-US" sz="2000" spc="-1" strike="noStrike">
                <a:solidFill>
                  <a:srgbClr val="000000"/>
                </a:solidFill>
                <a:latin typeface="Arial"/>
              </a:rPr>
              <a:t>cheap</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444BFC9-00C6-40FF-B1A9-CA20557C1A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JAKE1" descr=""/>
          <p:cNvPicPr/>
          <p:nvPr/>
        </p:nvPicPr>
        <p:blipFill>
          <a:blip r:embed="rId1"/>
          <a:stretch/>
        </p:blipFill>
        <p:spPr>
          <a:xfrm>
            <a:off x="2706840" y="1260360"/>
            <a:ext cx="3659040" cy="5397480"/>
          </a:xfrm>
          <a:prstGeom prst="rect">
            <a:avLst/>
          </a:prstGeom>
          <a:ln w="0">
            <a:noFill/>
          </a:ln>
        </p:spPr>
      </p:pic>
      <p:sp>
        <p:nvSpPr>
          <p:cNvPr id="226"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1VR Spitfire Installation</a:t>
            </a:r>
            <a:endParaRPr b="1" lang="en-US" sz="2800" spc="-1" strike="noStrike">
              <a:solidFill>
                <a:srgbClr val="000000"/>
              </a:solidFill>
              <a:latin typeface="Arial"/>
            </a:endParaRPr>
          </a:p>
        </p:txBody>
      </p:sp>
      <p:sp>
        <p:nvSpPr>
          <p:cNvPr id="227" name=""/>
          <p:cNvSpPr/>
          <p:nvPr/>
        </p:nvSpPr>
        <p:spPr>
          <a:xfrm flipH="1" flipV="1">
            <a:off x="4331880" y="2706840"/>
            <a:ext cx="1800" cy="1172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5040" y="2709720"/>
            <a:ext cx="1625760" cy="1282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4659480" y="2611080"/>
            <a:ext cx="0" cy="1189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64160" y="2612880"/>
            <a:ext cx="1270080" cy="247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9443CFC-9B57-4D69-A894-7C91655741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JAKE2" descr=""/>
          <p:cNvPicPr/>
          <p:nvPr/>
        </p:nvPicPr>
        <p:blipFill>
          <a:blip r:embed="rId1"/>
          <a:stretch/>
        </p:blipFill>
        <p:spPr>
          <a:xfrm>
            <a:off x="2732040" y="1227240"/>
            <a:ext cx="3659400" cy="5400720"/>
          </a:xfrm>
          <a:prstGeom prst="rect">
            <a:avLst/>
          </a:prstGeom>
          <a:ln w="0">
            <a:noFill/>
          </a:ln>
        </p:spPr>
      </p:pic>
      <p:sp>
        <p:nvSpPr>
          <p:cNvPr id="232"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1VR Relay Switch Box Installation</a:t>
            </a: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8ACC89-DB03-4492-ADFD-CC0EC77B93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tfire Variations</a:t>
            </a:r>
            <a:endParaRPr b="1" lang="en-US" sz="2800" spc="-1" strike="noStrike">
              <a:solidFill>
                <a:srgbClr val="000000"/>
              </a:solidFill>
              <a:latin typeface="Arial"/>
            </a:endParaRPr>
          </a:p>
        </p:txBody>
      </p:sp>
      <p:sp>
        <p:nvSpPr>
          <p:cNvPr id="234" name="PlaceHolder 2"/>
          <p:cNvSpPr>
            <a:spLocks noGrp="1"/>
          </p:cNvSpPr>
          <p:nvPr>
            <p:ph/>
          </p:nvPr>
        </p:nvSpPr>
        <p:spPr>
          <a:xfrm>
            <a:off x="685800" y="16081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or 4 switching direction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s easily to nonresonant towers (i.e. not </a:t>
            </a:r>
            <a:r>
              <a:rPr b="1" lang="en-US" sz="2000" spc="-1" strike="noStrike">
                <a:solidFill>
                  <a:srgbClr val="000000"/>
                </a:solidFill>
                <a:latin typeface="Symbol"/>
                <a:ea typeface="Symbol"/>
              </a:rPr>
              <a:t></a:t>
            </a:r>
            <a:r>
              <a:rPr b="1" lang="en-US" sz="2000" spc="-1" strike="noStrike">
                <a:solidFill>
                  <a:srgbClr val="000000"/>
                </a:solidFill>
                <a:latin typeface="Arial"/>
              </a:rPr>
              <a:t>/4)</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s to other bands (80, 40)</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saver single-wing (reflector) Spitfire in developmen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gain with arrays of Spitfires. . .</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DC08FEC-11D2-4D51-ADD8-E6EABEDB92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tfire Broadside Array</a:t>
            </a:r>
            <a:endParaRPr b="1" lang="en-US" sz="2800" spc="-1" strike="noStrike">
              <a:solidFill>
                <a:srgbClr val="000000"/>
              </a:solidFill>
              <a:latin typeface="Arial"/>
            </a:endParaRPr>
          </a:p>
        </p:txBody>
      </p:sp>
      <p:sp>
        <p:nvSpPr>
          <p:cNvPr id="236" name=""/>
          <p:cNvSpPr/>
          <p:nvPr/>
        </p:nvSpPr>
        <p:spPr>
          <a:xfrm>
            <a:off x="3022560" y="3699000"/>
            <a:ext cx="74520" cy="181908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2376360" y="519408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465280" y="5192640"/>
            <a:ext cx="126540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922120" y="4971960"/>
            <a:ext cx="23508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1797120" y="3784680"/>
            <a:ext cx="113328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941560" y="3795840"/>
            <a:ext cx="1800" cy="52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809720" y="5337000"/>
            <a:ext cx="77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193920" y="3798720"/>
            <a:ext cx="113364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3181320" y="3809880"/>
            <a:ext cx="1440" cy="53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3946320" y="5351400"/>
            <a:ext cx="368280" cy="9720"/>
          </a:xfrm>
          <a:prstGeom prst="line">
            <a:avLst/>
          </a:prstGeom>
          <a:ln w="2844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46" name=""/>
          <p:cNvSpPr/>
          <p:nvPr/>
        </p:nvSpPr>
        <p:spPr>
          <a:xfrm>
            <a:off x="5222880" y="1441440"/>
            <a:ext cx="74520" cy="181944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4576680" y="293652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665600" y="2935440"/>
            <a:ext cx="126540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5122440" y="2714760"/>
            <a:ext cx="23508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3997440" y="1527120"/>
            <a:ext cx="113328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141880" y="1538280"/>
            <a:ext cx="1800" cy="53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010040" y="3079800"/>
            <a:ext cx="771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394240" y="1541520"/>
            <a:ext cx="113364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5381640" y="1552680"/>
            <a:ext cx="1440" cy="530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146640" y="3094200"/>
            <a:ext cx="36864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6" name=""/>
          <p:cNvSpPr/>
          <p:nvPr/>
        </p:nvSpPr>
        <p:spPr>
          <a:xfrm flipV="1">
            <a:off x="4430880" y="3385800"/>
            <a:ext cx="2071440" cy="21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736240" y="4383000"/>
            <a:ext cx="259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ing = 270 - 335 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ot critical)</a:t>
            </a:r>
            <a:endParaRPr b="0" lang="en-US" sz="1800" spc="-1" strike="noStrike">
              <a:solidFill>
                <a:srgbClr val="000000"/>
              </a:solidFill>
              <a:latin typeface="Times New Roman"/>
            </a:endParaRPr>
          </a:p>
        </p:txBody>
      </p:sp>
      <p:sp>
        <p:nvSpPr>
          <p:cNvPr id="258" name=""/>
          <p:cNvSpPr/>
          <p:nvPr/>
        </p:nvSpPr>
        <p:spPr>
          <a:xfrm>
            <a:off x="1072440" y="2744640"/>
            <a:ext cx="1905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pitfire array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d in phase</a:t>
            </a:r>
            <a:endParaRPr b="0" lang="en-US" sz="1800" spc="-1" strike="noStrike">
              <a:solidFill>
                <a:srgbClr val="000000"/>
              </a:solidFill>
              <a:latin typeface="Times New Roman"/>
            </a:endParaRPr>
          </a:p>
        </p:txBody>
      </p:sp>
      <p:sp>
        <p:nvSpPr>
          <p:cNvPr id="259" name=""/>
          <p:cNvSpPr/>
          <p:nvPr/>
        </p:nvSpPr>
        <p:spPr>
          <a:xfrm>
            <a:off x="6889680" y="3530520"/>
            <a:ext cx="1096920" cy="276480"/>
          </a:xfrm>
          <a:prstGeom prst="rightArrow">
            <a:avLst>
              <a:gd name="adj1" fmla="val 50000"/>
              <a:gd name="adj2" fmla="val 99186"/>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73040" y="2840040"/>
            <a:ext cx="124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a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D2AC73B-0A76-4341-AAB1-C13BFAD5DC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adside Array Azimuth Pattern</a:t>
            </a:r>
            <a:endParaRPr b="1" lang="en-US" sz="2800" spc="-1" strike="noStrike">
              <a:solidFill>
                <a:srgbClr val="000000"/>
              </a:solidFill>
              <a:latin typeface="Arial"/>
            </a:endParaRPr>
          </a:p>
        </p:txBody>
      </p:sp>
      <p:pic>
        <p:nvPicPr>
          <p:cNvPr id="262" name="" descr=""/>
          <p:cNvPicPr/>
          <p:nvPr/>
        </p:nvPicPr>
        <p:blipFill>
          <a:blip r:embed="rId1"/>
          <a:stretch/>
        </p:blipFill>
        <p:spPr>
          <a:xfrm>
            <a:off x="1197000" y="1533600"/>
            <a:ext cx="6362640" cy="4770360"/>
          </a:xfrm>
          <a:prstGeom prst="rect">
            <a:avLst/>
          </a:prstGeom>
          <a:ln w="0">
            <a:noFill/>
          </a:ln>
        </p:spPr>
      </p:pic>
      <p:sp>
        <p:nvSpPr>
          <p:cNvPr id="263" name=""/>
          <p:cNvSpPr/>
          <p:nvPr/>
        </p:nvSpPr>
        <p:spPr>
          <a:xfrm flipH="1">
            <a:off x="6517800" y="3119400"/>
            <a:ext cx="577800" cy="254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080480" y="2635200"/>
            <a:ext cx="11804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pitfi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roadsi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rray</a:t>
            </a:r>
            <a:endParaRPr b="0" lang="en-US" sz="1800" spc="-1" strike="noStrike">
              <a:solidFill>
                <a:srgbClr val="000000"/>
              </a:solidFill>
              <a:latin typeface="Times New Roman"/>
            </a:endParaRPr>
          </a:p>
        </p:txBody>
      </p:sp>
      <p:sp>
        <p:nvSpPr>
          <p:cNvPr id="265" name=""/>
          <p:cNvSpPr/>
          <p:nvPr/>
        </p:nvSpPr>
        <p:spPr>
          <a:xfrm flipH="1">
            <a:off x="5675400" y="2314440"/>
            <a:ext cx="722160" cy="324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26640" y="2021040"/>
            <a:ext cx="89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ing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pitfi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CFC84C7-9A2B-4816-A6F1-5192A1BD61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ray Status at K1VR</a:t>
            </a:r>
            <a:endParaRPr b="1" lang="en-US" sz="2800" spc="-1" strike="noStrike">
              <a:solidFill>
                <a:srgbClr val="000000"/>
              </a:solidFill>
              <a:latin typeface="Arial"/>
            </a:endParaRPr>
          </a:p>
        </p:txBody>
      </p:sp>
      <p:sp>
        <p:nvSpPr>
          <p:cNvPr id="268" name="PlaceHolder 2"/>
          <p:cNvSpPr>
            <a:spLocks noGrp="1"/>
          </p:cNvSpPr>
          <p:nvPr>
            <p:ph/>
          </p:nvPr>
        </p:nvSpPr>
        <p:spPr>
          <a:xfrm>
            <a:off x="685800" y="16081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wire version in place since December ‘97 (4-wire version to be completed this spri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gest technical challenge: need for careful tuning of parasitic eleme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ed gain: ~ 1 S unit over tower alon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ed F/B: ~ 15 dB on DX (may improve with more fine tuning of parasitic eleme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160 DX QSO with new array:  VK6HD . . . on long path!</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azine publication in work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918DB36-DCF4-4BFD-BAE2-E3B2BD77E1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VR Spitfire Array</a:t>
            </a:r>
            <a:br>
              <a:rPr sz="3200"/>
            </a:br>
            <a:br>
              <a:rPr sz="3200"/>
            </a:br>
            <a:r>
              <a:rPr b="1" lang="en-US" sz="2800" spc="-1" strike="noStrike">
                <a:solidFill>
                  <a:srgbClr val="000000"/>
                </a:solidFill>
                <a:latin typeface="Arial"/>
              </a:rPr>
              <a:t>(</a:t>
            </a:r>
            <a:r>
              <a:rPr b="1" i="1" lang="en-US" sz="2800" spc="-1" strike="noStrike">
                <a:solidFill>
                  <a:srgbClr val="000000"/>
                </a:solidFill>
                <a:latin typeface="Arial"/>
              </a:rPr>
              <a:t>A poor man’s 4-square for Top Band</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270" name="PlaceHolder 2"/>
          <p:cNvSpPr>
            <a:spLocks noGrp="1"/>
          </p:cNvSpPr>
          <p:nvPr>
            <p:ph type="subTitle"/>
          </p:nvPr>
        </p:nvSpPr>
        <p:spPr>
          <a:xfrm>
            <a:off x="1312920" y="46213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Kaufmann W1FV  &lt;kaufmann@LL.mit.edu&gt;</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d Hopengarten K1VR  &lt;k1vr@juno.com&g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8B33A67-D473-4ECB-91EF-C6E1C65061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203960" y="1366920"/>
            <a:ext cx="1481400" cy="6699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172640" y="1368360"/>
            <a:ext cx="1599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squ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in ~6.9 dBi</a:t>
            </a:r>
            <a:endParaRPr b="0" lang="en-US" sz="1800" spc="-1" strike="noStrike">
              <a:solidFill>
                <a:srgbClr val="000000"/>
              </a:solidFill>
              <a:latin typeface="Times New Roman"/>
            </a:endParaRPr>
          </a:p>
        </p:txBody>
      </p:sp>
      <p:sp>
        <p:nvSpPr>
          <p:cNvPr id="56" name=""/>
          <p:cNvSpPr/>
          <p:nvPr/>
        </p:nvSpPr>
        <p:spPr>
          <a:xfrm>
            <a:off x="1784520" y="1344600"/>
            <a:ext cx="1566720" cy="6588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773720" y="1344600"/>
            <a:ext cx="1599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in ~1.4 dBi</a:t>
            </a:r>
            <a:endParaRPr b="0" lang="en-US" sz="1800" spc="-1" strike="noStrike">
              <a:solidFill>
                <a:srgbClr val="000000"/>
              </a:solidFill>
              <a:latin typeface="Times New Roman"/>
            </a:endParaRPr>
          </a:p>
        </p:txBody>
      </p:sp>
      <p:sp>
        <p:nvSpPr>
          <p:cNvPr id="58"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ng Gain to an Existing Vertical</a:t>
            </a:r>
            <a:endParaRPr b="1" lang="en-US" sz="2800" spc="-1" strike="noStrike">
              <a:solidFill>
                <a:srgbClr val="000000"/>
              </a:solidFill>
              <a:latin typeface="Arial"/>
            </a:endParaRPr>
          </a:p>
        </p:txBody>
      </p:sp>
      <p:grpSp>
        <p:nvGrpSpPr>
          <p:cNvPr id="59" name=""/>
          <p:cNvGrpSpPr/>
          <p:nvPr/>
        </p:nvGrpSpPr>
        <p:grpSpPr>
          <a:xfrm>
            <a:off x="720720" y="2050920"/>
            <a:ext cx="1379520" cy="2260800"/>
            <a:chOff x="720720" y="2050920"/>
            <a:chExt cx="1379520" cy="2260800"/>
          </a:xfrm>
        </p:grpSpPr>
        <p:sp>
          <p:nvSpPr>
            <p:cNvPr id="60" name=""/>
            <p:cNvSpPr/>
            <p:nvPr/>
          </p:nvSpPr>
          <p:spPr>
            <a:xfrm>
              <a:off x="1366920" y="2050920"/>
              <a:ext cx="74520" cy="171468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720720" y="3219480"/>
              <a:ext cx="1379520" cy="1092240"/>
              <a:chOff x="720720" y="3219480"/>
              <a:chExt cx="1379520" cy="1092240"/>
            </a:xfrm>
          </p:grpSpPr>
          <p:sp>
            <p:nvSpPr>
              <p:cNvPr id="62" name=""/>
              <p:cNvSpPr/>
              <p:nvPr/>
            </p:nvSpPr>
            <p:spPr>
              <a:xfrm flipV="1">
                <a:off x="720720" y="344124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09640" y="3440160"/>
                <a:ext cx="126540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1266480" y="3219480"/>
                <a:ext cx="23508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5" name=""/>
          <p:cNvGrpSpPr/>
          <p:nvPr/>
        </p:nvGrpSpPr>
        <p:grpSpPr>
          <a:xfrm>
            <a:off x="3871800" y="2035080"/>
            <a:ext cx="1379520" cy="2260800"/>
            <a:chOff x="3871800" y="2035080"/>
            <a:chExt cx="1379520" cy="2260800"/>
          </a:xfrm>
        </p:grpSpPr>
        <p:sp>
          <p:nvSpPr>
            <p:cNvPr id="66" name=""/>
            <p:cNvSpPr/>
            <p:nvPr/>
          </p:nvSpPr>
          <p:spPr>
            <a:xfrm>
              <a:off x="4517640" y="2035080"/>
              <a:ext cx="74880" cy="171468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3871800" y="342540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960720" y="3424320"/>
              <a:ext cx="126504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4417920" y="3203640"/>
              <a:ext cx="23472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5181480" y="2647800"/>
            <a:ext cx="1379520" cy="2260800"/>
            <a:chOff x="5181480" y="2647800"/>
            <a:chExt cx="1379520" cy="2260800"/>
          </a:xfrm>
        </p:grpSpPr>
        <p:sp>
          <p:nvSpPr>
            <p:cNvPr id="71" name=""/>
            <p:cNvSpPr/>
            <p:nvPr/>
          </p:nvSpPr>
          <p:spPr>
            <a:xfrm>
              <a:off x="5827320" y="2647800"/>
              <a:ext cx="74880" cy="171468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5181480" y="403812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270400" y="4037040"/>
              <a:ext cx="126504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727600" y="3816360"/>
              <a:ext cx="23472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6369120" y="2031840"/>
            <a:ext cx="1379520" cy="2260800"/>
            <a:chOff x="6369120" y="2031840"/>
            <a:chExt cx="1379520" cy="2260800"/>
          </a:xfrm>
        </p:grpSpPr>
        <p:sp>
          <p:nvSpPr>
            <p:cNvPr id="76" name=""/>
            <p:cNvSpPr/>
            <p:nvPr/>
          </p:nvSpPr>
          <p:spPr>
            <a:xfrm>
              <a:off x="7014960" y="2031840"/>
              <a:ext cx="74880" cy="171468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369120" y="342216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58040" y="3421080"/>
              <a:ext cx="126504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6915240" y="3200400"/>
              <a:ext cx="23472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5046840" y="1281240"/>
            <a:ext cx="1379520" cy="2260080"/>
            <a:chOff x="5046840" y="1281240"/>
            <a:chExt cx="1379520" cy="2260080"/>
          </a:xfrm>
        </p:grpSpPr>
        <p:sp>
          <p:nvSpPr>
            <p:cNvPr id="81" name=""/>
            <p:cNvSpPr/>
            <p:nvPr/>
          </p:nvSpPr>
          <p:spPr>
            <a:xfrm>
              <a:off x="5692680" y="1281240"/>
              <a:ext cx="74880" cy="171432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046840" y="2671560"/>
              <a:ext cx="1379520" cy="60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35760" y="2670120"/>
              <a:ext cx="1265040" cy="65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5592960" y="2449440"/>
              <a:ext cx="234720" cy="109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a:off x="2349360" y="3032280"/>
            <a:ext cx="1416240" cy="298440"/>
          </a:xfrm>
          <a:prstGeom prst="rightArrow">
            <a:avLst>
              <a:gd name="adj1" fmla="val 50000"/>
              <a:gd name="adj2" fmla="val 118637"/>
            </a:avLst>
          </a:prstGeom>
          <a:solidFill>
            <a:srgbClr val="ff66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58680" y="25210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Arial"/>
              </a:rPr>
              <a:t>?</a:t>
            </a:r>
            <a:endParaRPr b="0" lang="en-US" sz="3200" spc="-1" strike="noStrike">
              <a:solidFill>
                <a:srgbClr val="000000"/>
              </a:solidFill>
              <a:latin typeface="Times New Roman"/>
            </a:endParaRPr>
          </a:p>
        </p:txBody>
      </p:sp>
      <p:sp>
        <p:nvSpPr>
          <p:cNvPr id="87" name=""/>
          <p:cNvSpPr/>
          <p:nvPr/>
        </p:nvSpPr>
        <p:spPr>
          <a:xfrm>
            <a:off x="3840120" y="5145120"/>
            <a:ext cx="3973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388480" y="514512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0 ft</a:t>
            </a:r>
            <a:endParaRPr b="0" lang="en-US" sz="1800" spc="-1" strike="noStrike">
              <a:solidFill>
                <a:srgbClr val="000000"/>
              </a:solidFill>
              <a:latin typeface="Times New Roman"/>
            </a:endParaRPr>
          </a:p>
        </p:txBody>
      </p:sp>
      <p:sp>
        <p:nvSpPr>
          <p:cNvPr id="89" name=""/>
          <p:cNvSpPr/>
          <p:nvPr/>
        </p:nvSpPr>
        <p:spPr>
          <a:xfrm>
            <a:off x="673200" y="5145120"/>
            <a:ext cx="149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029240" y="514512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0 ft</a:t>
            </a:r>
            <a:endParaRPr b="0" lang="en-US" sz="1800" spc="-1" strike="noStrike">
              <a:solidFill>
                <a:srgbClr val="000000"/>
              </a:solidFill>
              <a:latin typeface="Times New Roman"/>
            </a:endParaRPr>
          </a:p>
        </p:txBody>
      </p:sp>
      <p:sp>
        <p:nvSpPr>
          <p:cNvPr id="91" name=""/>
          <p:cNvSpPr/>
          <p:nvPr/>
        </p:nvSpPr>
        <p:spPr>
          <a:xfrm>
            <a:off x="715320" y="5840280"/>
            <a:ext cx="83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ternative concepts:  WW2Y, K3LR, K4ERO, KB8I, K8UR, ON4UN, oth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41487B8-E1FD-420B-8948-A84B758680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VR Spitfire Array</a:t>
            </a:r>
            <a:br>
              <a:rPr sz="2800"/>
            </a:br>
            <a:r>
              <a:rPr b="1" lang="en-US" sz="2400" spc="-1" strike="noStrike">
                <a:solidFill>
                  <a:srgbClr val="000000"/>
                </a:solidFill>
                <a:latin typeface="Arial"/>
              </a:rPr>
              <a:t>(2 switching directions)</a:t>
            </a:r>
            <a:endParaRPr b="1" lang="en-US" sz="2400" spc="-1" strike="noStrike">
              <a:solidFill>
                <a:srgbClr val="000000"/>
              </a:solidFill>
              <a:latin typeface="Arial"/>
            </a:endParaRPr>
          </a:p>
        </p:txBody>
      </p:sp>
      <p:sp>
        <p:nvSpPr>
          <p:cNvPr id="93" name=""/>
          <p:cNvSpPr/>
          <p:nvPr/>
        </p:nvSpPr>
        <p:spPr>
          <a:xfrm>
            <a:off x="3556080" y="1638360"/>
            <a:ext cx="74520" cy="181908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2909880" y="2911320"/>
            <a:ext cx="1379520" cy="1092240"/>
            <a:chOff x="2909880" y="2911320"/>
            <a:chExt cx="1379520" cy="1092240"/>
          </a:xfrm>
        </p:grpSpPr>
        <p:sp>
          <p:nvSpPr>
            <p:cNvPr id="95" name=""/>
            <p:cNvSpPr/>
            <p:nvPr/>
          </p:nvSpPr>
          <p:spPr>
            <a:xfrm flipV="1">
              <a:off x="2909880" y="3133080"/>
              <a:ext cx="137952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998800" y="3132000"/>
              <a:ext cx="126540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455640" y="2911320"/>
              <a:ext cx="235080" cy="10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329920" y="1724040"/>
            <a:ext cx="1146600" cy="1565280"/>
            <a:chOff x="2329920" y="1724040"/>
            <a:chExt cx="1146600" cy="1565280"/>
          </a:xfrm>
        </p:grpSpPr>
        <p:sp>
          <p:nvSpPr>
            <p:cNvPr id="99" name=""/>
            <p:cNvSpPr/>
            <p:nvPr/>
          </p:nvSpPr>
          <p:spPr>
            <a:xfrm flipH="1">
              <a:off x="2329920" y="1724040"/>
              <a:ext cx="113364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475080" y="1735200"/>
              <a:ext cx="1440" cy="52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42880" y="3276360"/>
              <a:ext cx="77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727440" y="1738440"/>
            <a:ext cx="1133640" cy="156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3714840" y="1749600"/>
            <a:ext cx="1440" cy="52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479480" y="3290760"/>
            <a:ext cx="368280" cy="9720"/>
          </a:xfrm>
          <a:prstGeom prst="line">
            <a:avLst/>
          </a:prstGeom>
          <a:ln w="2844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5" name=""/>
          <p:cNvSpPr/>
          <p:nvPr/>
        </p:nvSpPr>
        <p:spPr>
          <a:xfrm>
            <a:off x="4924440" y="30909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917960" y="345564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69440" y="318456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ft above gnd</a:t>
            </a:r>
            <a:endParaRPr b="0" lang="en-US" sz="1800" spc="-1" strike="noStrike">
              <a:solidFill>
                <a:srgbClr val="000000"/>
              </a:solidFill>
              <a:latin typeface="Times New Roman"/>
            </a:endParaRPr>
          </a:p>
        </p:txBody>
      </p:sp>
      <p:sp>
        <p:nvSpPr>
          <p:cNvPr id="108" name=""/>
          <p:cNvSpPr/>
          <p:nvPr/>
        </p:nvSpPr>
        <p:spPr>
          <a:xfrm>
            <a:off x="4442040" y="245268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a:t>
            </a:r>
            <a:endParaRPr b="0" lang="en-US" sz="1800" spc="-1" strike="noStrike">
              <a:solidFill>
                <a:srgbClr val="000000"/>
              </a:solidFill>
              <a:latin typeface="Times New Roman"/>
            </a:endParaRPr>
          </a:p>
        </p:txBody>
      </p:sp>
      <p:sp>
        <p:nvSpPr>
          <p:cNvPr id="109" name=""/>
          <p:cNvSpPr/>
          <p:nvPr/>
        </p:nvSpPr>
        <p:spPr>
          <a:xfrm>
            <a:off x="1767600" y="2421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or</a:t>
            </a:r>
            <a:endParaRPr b="0" lang="en-US" sz="1800" spc="-1" strike="noStrike">
              <a:solidFill>
                <a:srgbClr val="000000"/>
              </a:solidFill>
              <a:latin typeface="Times New Roman"/>
            </a:endParaRPr>
          </a:p>
        </p:txBody>
      </p:sp>
      <p:sp>
        <p:nvSpPr>
          <p:cNvPr id="110" name=""/>
          <p:cNvSpPr/>
          <p:nvPr/>
        </p:nvSpPr>
        <p:spPr>
          <a:xfrm>
            <a:off x="1744200" y="1177920"/>
            <a:ext cx="176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4 driven ele</a:t>
            </a:r>
            <a:endParaRPr b="0" lang="en-US" sz="1800" spc="-1" strike="noStrike">
              <a:solidFill>
                <a:srgbClr val="000000"/>
              </a:solidFill>
              <a:latin typeface="Times New Roman"/>
            </a:endParaRPr>
          </a:p>
        </p:txBody>
      </p:sp>
      <p:sp>
        <p:nvSpPr>
          <p:cNvPr id="111" name=""/>
          <p:cNvSpPr/>
          <p:nvPr/>
        </p:nvSpPr>
        <p:spPr>
          <a:xfrm>
            <a:off x="3406680" y="1417680"/>
            <a:ext cx="192240" cy="1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80200" y="2158920"/>
            <a:ext cx="720720" cy="211320"/>
          </a:xfrm>
          <a:prstGeom prst="rightArrow">
            <a:avLst>
              <a:gd name="adj1" fmla="val 50000"/>
              <a:gd name="adj2" fmla="val 85264"/>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170040" y="1925640"/>
            <a:ext cx="124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ation</a:t>
            </a:r>
            <a:endParaRPr b="0" lang="en-US" sz="1800" spc="-1" strike="noStrike">
              <a:solidFill>
                <a:srgbClr val="000000"/>
              </a:solidFill>
              <a:latin typeface="Times New Roman"/>
            </a:endParaRPr>
          </a:p>
        </p:txBody>
      </p:sp>
      <p:sp>
        <p:nvSpPr>
          <p:cNvPr id="114" name=""/>
          <p:cNvSpPr/>
          <p:nvPr/>
        </p:nvSpPr>
        <p:spPr>
          <a:xfrm>
            <a:off x="2287440" y="4159080"/>
            <a:ext cx="2629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158280" y="419724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0 ft</a:t>
            </a:r>
            <a:endParaRPr b="0" lang="en-US" sz="1800" spc="-1" strike="noStrike">
              <a:solidFill>
                <a:srgbClr val="000000"/>
              </a:solidFill>
              <a:latin typeface="Times New Roman"/>
            </a:endParaRPr>
          </a:p>
        </p:txBody>
      </p:sp>
      <p:sp>
        <p:nvSpPr>
          <p:cNvPr id="116" name=""/>
          <p:cNvSpPr/>
          <p:nvPr/>
        </p:nvSpPr>
        <p:spPr>
          <a:xfrm>
            <a:off x="513360" y="4578480"/>
            <a:ext cx="83808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 wave grounded tower as driven element and support for wire ele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 wave </a:t>
            </a:r>
            <a:r>
              <a:rPr b="1" i="1" lang="en-US" sz="1800" spc="-1" strike="noStrike">
                <a:solidFill>
                  <a:srgbClr val="000000"/>
                </a:solidFill>
                <a:latin typeface="Arial"/>
              </a:rPr>
              <a:t>ungrounded</a:t>
            </a:r>
            <a:r>
              <a:rPr b="1" lang="en-US" sz="1800" spc="-1" strike="noStrike">
                <a:solidFill>
                  <a:srgbClr val="000000"/>
                </a:solidFill>
                <a:latin typeface="Arial"/>
              </a:rPr>
              <a:t> folded parasitic wire ele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ventional 1/4 wave radial system for tower driven elemen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o additional radial system needed for 1/2 wave parasitic ele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voids ground current loss in parasitic ele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expensive upgrade to existing tower</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direction switching, expandable to 4 directions</a:t>
            </a:r>
            <a:endParaRPr b="0" lang="en-US" sz="1800" spc="-1" strike="noStrike">
              <a:solidFill>
                <a:srgbClr val="000000"/>
              </a:solidFill>
              <a:latin typeface="Times New Roman"/>
            </a:endParaRPr>
          </a:p>
        </p:txBody>
      </p:sp>
      <p:sp>
        <p:nvSpPr>
          <p:cNvPr id="117" name=""/>
          <p:cNvSpPr/>
          <p:nvPr/>
        </p:nvSpPr>
        <p:spPr>
          <a:xfrm>
            <a:off x="2289240" y="3651120"/>
            <a:ext cx="1311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756160" y="3338640"/>
            <a:ext cx="49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51A819E-46F4-46CE-A48B-6742F1679D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ion Switching Details</a:t>
            </a:r>
            <a:endParaRPr b="1" lang="en-US" sz="2800" spc="-1" strike="noStrike">
              <a:solidFill>
                <a:srgbClr val="000000"/>
              </a:solidFill>
              <a:latin typeface="Arial"/>
            </a:endParaRPr>
          </a:p>
        </p:txBody>
      </p:sp>
      <p:sp>
        <p:nvSpPr>
          <p:cNvPr id="120" name=""/>
          <p:cNvSpPr/>
          <p:nvPr/>
        </p:nvSpPr>
        <p:spPr>
          <a:xfrm flipH="1">
            <a:off x="558360" y="1477800"/>
            <a:ext cx="1771560" cy="272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46120" y="4192560"/>
            <a:ext cx="1338120" cy="792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2" name=""/>
          <p:cNvSpPr/>
          <p:nvPr/>
        </p:nvSpPr>
        <p:spPr>
          <a:xfrm>
            <a:off x="6894360" y="1522440"/>
            <a:ext cx="1546200" cy="267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075440" y="4197240"/>
            <a:ext cx="137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5694120" y="4184640"/>
            <a:ext cx="98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flipV="1">
            <a:off x="6689520" y="3911400"/>
            <a:ext cx="409320" cy="28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71920" y="1554120"/>
            <a:ext cx="198360" cy="3913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267000" y="4165560"/>
            <a:ext cx="149400" cy="74520"/>
          </a:xfrm>
          <a:prstGeom prst="ellipse">
            <a:avLst/>
          </a:prstGeom>
          <a:noFill/>
          <a:ln w="2844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8" name=""/>
          <p:cNvSpPr/>
          <p:nvPr/>
        </p:nvSpPr>
        <p:spPr>
          <a:xfrm>
            <a:off x="5556240" y="4141800"/>
            <a:ext cx="149400" cy="74520"/>
          </a:xfrm>
          <a:prstGeom prst="ellipse">
            <a:avLst/>
          </a:prstGeom>
          <a:noFill/>
          <a:ln w="2844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9" name=""/>
          <p:cNvSpPr/>
          <p:nvPr/>
        </p:nvSpPr>
        <p:spPr>
          <a:xfrm>
            <a:off x="3424320" y="4195800"/>
            <a:ext cx="106848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683240" y="4187880"/>
            <a:ext cx="895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67960" y="429264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y</a:t>
            </a:r>
            <a:endParaRPr b="0" lang="en-US" sz="1800" spc="-1" strike="noStrike">
              <a:solidFill>
                <a:srgbClr val="000000"/>
              </a:solidFill>
              <a:latin typeface="Times New Roman"/>
            </a:endParaRPr>
          </a:p>
        </p:txBody>
      </p:sp>
      <p:sp>
        <p:nvSpPr>
          <p:cNvPr id="132" name=""/>
          <p:cNvSpPr/>
          <p:nvPr/>
        </p:nvSpPr>
        <p:spPr>
          <a:xfrm>
            <a:off x="6516000" y="432108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y</a:t>
            </a:r>
            <a:endParaRPr b="0" lang="en-US" sz="1800" spc="-1" strike="noStrike">
              <a:solidFill>
                <a:srgbClr val="000000"/>
              </a:solidFill>
              <a:latin typeface="Times New Roman"/>
            </a:endParaRPr>
          </a:p>
        </p:txBody>
      </p:sp>
      <p:sp>
        <p:nvSpPr>
          <p:cNvPr id="133" name=""/>
          <p:cNvSpPr/>
          <p:nvPr/>
        </p:nvSpPr>
        <p:spPr>
          <a:xfrm flipV="1">
            <a:off x="2819520" y="4932000"/>
            <a:ext cx="3192480" cy="10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05080" y="5006880"/>
            <a:ext cx="2932200" cy="89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4309560" y="4821120"/>
            <a:ext cx="4842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329920" y="3075120"/>
            <a:ext cx="2096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ed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or segment</a:t>
            </a:r>
            <a:endParaRPr b="0" lang="en-US" sz="1800" spc="-1" strike="noStrike">
              <a:solidFill>
                <a:srgbClr val="000000"/>
              </a:solidFill>
              <a:latin typeface="Times New Roman"/>
            </a:endParaRPr>
          </a:p>
        </p:txBody>
      </p:sp>
      <p:sp>
        <p:nvSpPr>
          <p:cNvPr id="137" name=""/>
          <p:cNvSpPr/>
          <p:nvPr/>
        </p:nvSpPr>
        <p:spPr>
          <a:xfrm flipH="1">
            <a:off x="2844360" y="3703680"/>
            <a:ext cx="322200" cy="43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62680" y="3740040"/>
            <a:ext cx="272880" cy="398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731840" y="3079800"/>
            <a:ext cx="2096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ed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or segment</a:t>
            </a:r>
            <a:endParaRPr b="0" lang="en-US" sz="1800" spc="-1" strike="noStrike">
              <a:solidFill>
                <a:srgbClr val="000000"/>
              </a:solidFill>
              <a:latin typeface="Times New Roman"/>
            </a:endParaRPr>
          </a:p>
        </p:txBody>
      </p:sp>
      <p:sp>
        <p:nvSpPr>
          <p:cNvPr id="140" name=""/>
          <p:cNvSpPr/>
          <p:nvPr/>
        </p:nvSpPr>
        <p:spPr>
          <a:xfrm>
            <a:off x="6673680" y="4141800"/>
            <a:ext cx="87480" cy="87480"/>
          </a:xfrm>
          <a:prstGeom prst="ellipse">
            <a:avLst/>
          </a:prstGeom>
          <a:noFill/>
          <a:ln w="2844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1" name=""/>
          <p:cNvSpPr/>
          <p:nvPr/>
        </p:nvSpPr>
        <p:spPr>
          <a:xfrm>
            <a:off x="7034040" y="4151160"/>
            <a:ext cx="87480" cy="87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2" name=""/>
          <p:cNvSpPr/>
          <p:nvPr/>
        </p:nvSpPr>
        <p:spPr>
          <a:xfrm>
            <a:off x="1890720" y="4152960"/>
            <a:ext cx="87480" cy="87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3" name=""/>
          <p:cNvSpPr/>
          <p:nvPr/>
        </p:nvSpPr>
        <p:spPr>
          <a:xfrm>
            <a:off x="2281320" y="4152960"/>
            <a:ext cx="87120" cy="87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4" name=""/>
          <p:cNvSpPr/>
          <p:nvPr/>
        </p:nvSpPr>
        <p:spPr>
          <a:xfrm flipV="1">
            <a:off x="1990800" y="4113360"/>
            <a:ext cx="33480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365200" y="4200480"/>
            <a:ext cx="89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624800" y="1903320"/>
            <a:ext cx="915840" cy="314280"/>
          </a:xfrm>
          <a:prstGeom prst="rightArrow">
            <a:avLst>
              <a:gd name="adj1" fmla="val 50000"/>
              <a:gd name="adj2" fmla="val 72852"/>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755640" y="1882800"/>
            <a:ext cx="915840" cy="314280"/>
          </a:xfrm>
          <a:prstGeom prst="rightArrow">
            <a:avLst>
              <a:gd name="adj1" fmla="val 50000"/>
              <a:gd name="adj2" fmla="val 72852"/>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0680" y="139392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1</a:t>
            </a:r>
            <a:endParaRPr b="0" lang="en-US" sz="1800" spc="-1" strike="noStrike">
              <a:solidFill>
                <a:srgbClr val="000000"/>
              </a:solidFill>
              <a:latin typeface="Times New Roman"/>
            </a:endParaRPr>
          </a:p>
        </p:txBody>
      </p:sp>
      <p:sp>
        <p:nvSpPr>
          <p:cNvPr id="149" name=""/>
          <p:cNvSpPr/>
          <p:nvPr/>
        </p:nvSpPr>
        <p:spPr>
          <a:xfrm>
            <a:off x="7341840" y="139392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2</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24478A8-16FC-423A-87AE-8AE4193DF4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VR Spitfire Array</a:t>
            </a:r>
            <a:br>
              <a:rPr sz="2800"/>
            </a:br>
            <a:r>
              <a:rPr b="1" lang="en-US" sz="2400" spc="-1" strike="noStrike">
                <a:solidFill>
                  <a:srgbClr val="000000"/>
                </a:solidFill>
                <a:latin typeface="Arial"/>
              </a:rPr>
              <a:t>(“Poor man’s 4-square”)</a:t>
            </a:r>
            <a:endParaRPr b="1" lang="en-US" sz="2400" spc="-1" strike="noStrike">
              <a:solidFill>
                <a:srgbClr val="000000"/>
              </a:solidFill>
              <a:latin typeface="Arial"/>
            </a:endParaRPr>
          </a:p>
        </p:txBody>
      </p:sp>
      <p:sp>
        <p:nvSpPr>
          <p:cNvPr id="151" name=""/>
          <p:cNvSpPr/>
          <p:nvPr/>
        </p:nvSpPr>
        <p:spPr>
          <a:xfrm>
            <a:off x="4695840" y="1278000"/>
            <a:ext cx="127080" cy="30798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3605040" y="3433680"/>
            <a:ext cx="2330280" cy="1847520"/>
            <a:chOff x="3605040" y="3433680"/>
            <a:chExt cx="2330280" cy="1847520"/>
          </a:xfrm>
        </p:grpSpPr>
        <p:sp>
          <p:nvSpPr>
            <p:cNvPr id="153" name=""/>
            <p:cNvSpPr/>
            <p:nvPr/>
          </p:nvSpPr>
          <p:spPr>
            <a:xfrm flipV="1">
              <a:off x="3605040" y="3808800"/>
              <a:ext cx="2330280" cy="10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755160" y="3806640"/>
              <a:ext cx="2137320" cy="11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4527000" y="3433680"/>
              <a:ext cx="397080" cy="184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flipH="1">
            <a:off x="3316320" y="1406520"/>
            <a:ext cx="1370160" cy="178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851360" y="1477800"/>
            <a:ext cx="1947960" cy="344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2685600" y="1436760"/>
            <a:ext cx="1987560" cy="338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18240" y="1386000"/>
            <a:ext cx="1338120" cy="186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2711520" y="4436640"/>
            <a:ext cx="885600" cy="38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520960" y="3268800"/>
            <a:ext cx="63828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301920" y="3192480"/>
            <a:ext cx="698760" cy="34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flipV="1">
            <a:off x="5943240" y="4510080"/>
            <a:ext cx="831960" cy="39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70440" y="1473120"/>
            <a:ext cx="0" cy="67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649760" y="1494000"/>
            <a:ext cx="0" cy="67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594440" y="5430960"/>
            <a:ext cx="61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wer always drive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parasitic wires “active” at a time, i.e. 1 &amp; 2 (or 3 &amp; 4)</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 2 wires grounded until activate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ts in circle of 270 ft diameter</a:t>
            </a:r>
            <a:endParaRPr b="0" lang="en-US" sz="1800" spc="-1" strike="noStrike">
              <a:solidFill>
                <a:srgbClr val="000000"/>
              </a:solidFill>
              <a:latin typeface="Times New Roman"/>
            </a:endParaRPr>
          </a:p>
        </p:txBody>
      </p:sp>
      <p:sp>
        <p:nvSpPr>
          <p:cNvPr id="167" name=""/>
          <p:cNvSpPr/>
          <p:nvPr/>
        </p:nvSpPr>
        <p:spPr>
          <a:xfrm>
            <a:off x="2934000" y="3635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68" name=""/>
          <p:cNvSpPr/>
          <p:nvPr/>
        </p:nvSpPr>
        <p:spPr>
          <a:xfrm>
            <a:off x="5600880" y="227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69" name=""/>
          <p:cNvSpPr/>
          <p:nvPr/>
        </p:nvSpPr>
        <p:spPr>
          <a:xfrm>
            <a:off x="623268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70" name=""/>
          <p:cNvSpPr/>
          <p:nvPr/>
        </p:nvSpPr>
        <p:spPr>
          <a:xfrm>
            <a:off x="3397320" y="2284560"/>
            <a:ext cx="2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71" name=""/>
          <p:cNvSpPr/>
          <p:nvPr/>
        </p:nvSpPr>
        <p:spPr>
          <a:xfrm rot="20224200">
            <a:off x="6149880" y="2292120"/>
            <a:ext cx="720720" cy="210960"/>
          </a:xfrm>
          <a:prstGeom prst="rightArrow">
            <a:avLst>
              <a:gd name="adj1" fmla="val 50000"/>
              <a:gd name="adj2" fmla="val 85410"/>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9424200">
            <a:off x="2068200" y="4103280"/>
            <a:ext cx="720720" cy="211320"/>
          </a:xfrm>
          <a:prstGeom prst="rightArrow">
            <a:avLst>
              <a:gd name="adj1" fmla="val 50000"/>
              <a:gd name="adj2" fmla="val 85264"/>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1638000">
            <a:off x="6683040" y="4149720"/>
            <a:ext cx="720720" cy="211320"/>
          </a:xfrm>
          <a:prstGeom prst="rightArrow">
            <a:avLst>
              <a:gd name="adj1" fmla="val 50000"/>
              <a:gd name="adj2" fmla="val 85264"/>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12438600">
            <a:off x="2531880" y="2118960"/>
            <a:ext cx="720720" cy="210960"/>
          </a:xfrm>
          <a:prstGeom prst="rightArrow">
            <a:avLst>
              <a:gd name="adj1" fmla="val 50000"/>
              <a:gd name="adj2" fmla="val 85410"/>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320120" y="162252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4</a:t>
            </a:r>
            <a:endParaRPr b="0" lang="en-US" sz="1800" spc="-1" strike="noStrike">
              <a:solidFill>
                <a:srgbClr val="000000"/>
              </a:solidFill>
              <a:latin typeface="Times New Roman"/>
            </a:endParaRPr>
          </a:p>
        </p:txBody>
      </p:sp>
      <p:sp>
        <p:nvSpPr>
          <p:cNvPr id="176" name=""/>
          <p:cNvSpPr/>
          <p:nvPr/>
        </p:nvSpPr>
        <p:spPr>
          <a:xfrm>
            <a:off x="7441560" y="450540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3</a:t>
            </a:r>
            <a:endParaRPr b="0" lang="en-US" sz="1800" spc="-1" strike="noStrike">
              <a:solidFill>
                <a:srgbClr val="000000"/>
              </a:solidFill>
              <a:latin typeface="Times New Roman"/>
            </a:endParaRPr>
          </a:p>
        </p:txBody>
      </p:sp>
      <p:sp>
        <p:nvSpPr>
          <p:cNvPr id="177" name=""/>
          <p:cNvSpPr/>
          <p:nvPr/>
        </p:nvSpPr>
        <p:spPr>
          <a:xfrm>
            <a:off x="798120" y="433080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1</a:t>
            </a:r>
            <a:endParaRPr b="0" lang="en-US" sz="1800" spc="-1" strike="noStrike">
              <a:solidFill>
                <a:srgbClr val="000000"/>
              </a:solidFill>
              <a:latin typeface="Times New Roman"/>
            </a:endParaRPr>
          </a:p>
        </p:txBody>
      </p:sp>
      <p:sp>
        <p:nvSpPr>
          <p:cNvPr id="178" name=""/>
          <p:cNvSpPr/>
          <p:nvPr/>
        </p:nvSpPr>
        <p:spPr>
          <a:xfrm>
            <a:off x="6951240" y="183348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 2</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C56EBEA-5BAA-4616-B598-AF7331FBFC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474920" y="1484280"/>
            <a:ext cx="6362640" cy="4770360"/>
          </a:xfrm>
          <a:prstGeom prst="rect">
            <a:avLst/>
          </a:prstGeom>
          <a:ln w="0">
            <a:noFill/>
          </a:ln>
        </p:spPr>
      </p:pic>
      <p:sp>
        <p:nvSpPr>
          <p:cNvPr id="180"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tfire Elevation Pattern</a:t>
            </a:r>
            <a:endParaRPr b="1" lang="en-US" sz="2800" spc="-1" strike="noStrike">
              <a:solidFill>
                <a:srgbClr val="000000"/>
              </a:solidFill>
              <a:latin typeface="Arial"/>
            </a:endParaRPr>
          </a:p>
        </p:txBody>
      </p:sp>
      <p:sp>
        <p:nvSpPr>
          <p:cNvPr id="181" name=""/>
          <p:cNvSpPr/>
          <p:nvPr/>
        </p:nvSpPr>
        <p:spPr>
          <a:xfrm flipV="1">
            <a:off x="6673680" y="2361960"/>
            <a:ext cx="698760" cy="2286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6330960" y="3152520"/>
            <a:ext cx="698400" cy="22860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390440" y="214164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pitfire</a:t>
            </a:r>
            <a:endParaRPr b="0" lang="en-US" sz="1800" spc="-1" strike="noStrike">
              <a:solidFill>
                <a:srgbClr val="000000"/>
              </a:solidFill>
              <a:latin typeface="Times New Roman"/>
            </a:endParaRPr>
          </a:p>
        </p:txBody>
      </p:sp>
      <p:sp>
        <p:nvSpPr>
          <p:cNvPr id="184" name=""/>
          <p:cNvSpPr/>
          <p:nvPr/>
        </p:nvSpPr>
        <p:spPr>
          <a:xfrm>
            <a:off x="7055280" y="29606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ngle vertica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E6CBA35-4473-403B-B794-ABA119E65C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557360" y="1376280"/>
            <a:ext cx="6362640" cy="4770360"/>
          </a:xfrm>
          <a:prstGeom prst="rect">
            <a:avLst/>
          </a:prstGeom>
          <a:ln w="0">
            <a:noFill/>
          </a:ln>
        </p:spPr>
      </p:pic>
      <p:sp>
        <p:nvSpPr>
          <p:cNvPr id="186"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tfire Azimuth Pattern</a:t>
            </a:r>
            <a:br>
              <a:rPr sz="2800"/>
            </a:br>
            <a:r>
              <a:rPr b="1" lang="en-US" sz="2400" spc="-1" strike="noStrike">
                <a:solidFill>
                  <a:srgbClr val="000000"/>
                </a:solidFill>
                <a:latin typeface="Arial"/>
              </a:rPr>
              <a:t>(25</a:t>
            </a:r>
            <a:r>
              <a:rPr b="1" lang="en-US" sz="2400" spc="-1" strike="noStrike" baseline="30000">
                <a:solidFill>
                  <a:srgbClr val="000000"/>
                </a:solidFill>
                <a:latin typeface="Arial"/>
              </a:rPr>
              <a:t>o</a:t>
            </a:r>
            <a:r>
              <a:rPr b="1" lang="en-US" sz="2400" spc="-1" strike="noStrike">
                <a:solidFill>
                  <a:srgbClr val="000000"/>
                </a:solidFill>
                <a:latin typeface="Arial"/>
              </a:rPr>
              <a:t> elevation)</a:t>
            </a:r>
            <a:endParaRPr b="1" lang="en-US" sz="2400" spc="-1" strike="noStrike">
              <a:solidFill>
                <a:srgbClr val="000000"/>
              </a:solidFill>
              <a:latin typeface="Arial"/>
            </a:endParaRPr>
          </a:p>
        </p:txBody>
      </p:sp>
      <p:sp>
        <p:nvSpPr>
          <p:cNvPr id="187" name=""/>
          <p:cNvSpPr/>
          <p:nvPr/>
        </p:nvSpPr>
        <p:spPr>
          <a:xfrm flipV="1">
            <a:off x="6673680" y="2361960"/>
            <a:ext cx="698760" cy="2286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6462720" y="3103560"/>
            <a:ext cx="782640" cy="27792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390440" y="214164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pitfire</a:t>
            </a:r>
            <a:endParaRPr b="0" lang="en-US" sz="1800" spc="-1" strike="noStrike">
              <a:solidFill>
                <a:srgbClr val="000000"/>
              </a:solidFill>
              <a:latin typeface="Times New Roman"/>
            </a:endParaRPr>
          </a:p>
        </p:txBody>
      </p:sp>
      <p:sp>
        <p:nvSpPr>
          <p:cNvPr id="190" name=""/>
          <p:cNvSpPr/>
          <p:nvPr/>
        </p:nvSpPr>
        <p:spPr>
          <a:xfrm>
            <a:off x="7174440" y="291132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ngle vertica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9353971-EBB6-45B8-ABF2-9D18D90FA6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Model Gain</a:t>
            </a:r>
            <a:endParaRPr b="1" lang="en-US" sz="2800" spc="-1" strike="noStrike">
              <a:solidFill>
                <a:srgbClr val="000000"/>
              </a:solidFill>
              <a:latin typeface="Arial"/>
            </a:endParaRPr>
          </a:p>
        </p:txBody>
      </p:sp>
      <p:graphicFrame>
        <p:nvGraphicFramePr>
          <p:cNvPr id="192" name=""/>
          <p:cNvGraphicFramePr/>
          <p:nvPr/>
        </p:nvGraphicFramePr>
        <p:xfrm>
          <a:off x="795240" y="1258920"/>
          <a:ext cx="7551720" cy="5160960"/>
        </p:xfrm>
        <a:graphic>
          <a:graphicData uri="http://schemas.openxmlformats.org/presentationml/2006/ole">
            <p:oleObj progId="Excel.Sheet.12" r:id="rId1" spid="">
              <p:embed/>
              <p:pic>
                <p:nvPicPr>
                  <p:cNvPr id="193" name="" descr=""/>
                  <p:cNvPicPr/>
                  <p:nvPr/>
                </p:nvPicPr>
                <p:blipFill>
                  <a:blip r:embed="rId2"/>
                  <a:stretch/>
                </p:blipFill>
                <p:spPr>
                  <a:xfrm>
                    <a:off x="795240" y="1258920"/>
                    <a:ext cx="7551720" cy="5160960"/>
                  </a:xfrm>
                  <a:prstGeom prst="rect">
                    <a:avLst/>
                  </a:prstGeom>
                  <a:ln w="0">
                    <a:noFill/>
                  </a:ln>
                </p:spPr>
              </p:pic>
            </p:oleObj>
          </a:graphicData>
        </a:graphic>
      </p:graphicFrame>
      <p:sp>
        <p:nvSpPr>
          <p:cNvPr id="3" name="PlaceHolder 2"/>
          <p:cNvSpPr>
            <a:spLocks noGrp="1"/>
          </p:cNvSpPr>
          <p:nvPr>
            <p:ph type="sldNum" idx="1"/>
          </p:nvPr>
        </p:nvSpPr>
        <p:spPr/>
        <p:txBody>
          <a:bodyPr/>
          <a:p>
            <a:fld id="{2EC0C60E-0C16-400E-8593-24605D0C4E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Model Front-to-Back Ratio</a:t>
            </a:r>
            <a:endParaRPr b="1" lang="en-US" sz="2800" spc="-1" strike="noStrike">
              <a:solidFill>
                <a:srgbClr val="000000"/>
              </a:solidFill>
              <a:latin typeface="Arial"/>
            </a:endParaRPr>
          </a:p>
        </p:txBody>
      </p:sp>
      <p:graphicFrame>
        <p:nvGraphicFramePr>
          <p:cNvPr id="195" name=""/>
          <p:cNvGraphicFramePr/>
          <p:nvPr/>
        </p:nvGraphicFramePr>
        <p:xfrm>
          <a:off x="1119240" y="1222200"/>
          <a:ext cx="6904080" cy="5307120"/>
        </p:xfrm>
        <a:graphic>
          <a:graphicData uri="http://schemas.openxmlformats.org/presentationml/2006/ole">
            <p:oleObj progId="Excel.Sheet.12" r:id="rId1" spid="">
              <p:embed/>
              <p:pic>
                <p:nvPicPr>
                  <p:cNvPr id="196" name="" descr=""/>
                  <p:cNvPicPr/>
                  <p:nvPr/>
                </p:nvPicPr>
                <p:blipFill>
                  <a:blip r:embed="rId2"/>
                  <a:stretch/>
                </p:blipFill>
                <p:spPr>
                  <a:xfrm>
                    <a:off x="1119240" y="1222200"/>
                    <a:ext cx="6904080" cy="5307120"/>
                  </a:xfrm>
                  <a:prstGeom prst="rect">
                    <a:avLst/>
                  </a:prstGeom>
                  <a:ln w="0">
                    <a:noFill/>
                  </a:ln>
                </p:spPr>
              </p:pic>
            </p:oleObj>
          </a:graphicData>
        </a:graphic>
      </p:graphicFrame>
      <p:sp>
        <p:nvSpPr>
          <p:cNvPr id="3" name="PlaceHolder 2"/>
          <p:cNvSpPr>
            <a:spLocks noGrp="1"/>
          </p:cNvSpPr>
          <p:nvPr>
            <p:ph type="sldNum" idx="1"/>
          </p:nvPr>
        </p:nvSpPr>
        <p:spPr/>
        <p:txBody>
          <a:bodyPr/>
          <a:p>
            <a:fld id="{A7DFAE75-4A5D-4BBA-B522-9B1BF717DC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30T18:07:04Z</dcterms:created>
  <dc:creator>John Kaufmann</dc:creator>
  <dc:description/>
  <dc:language>en-US</dc:language>
  <cp:lastModifiedBy>John Kaufmann</cp:lastModifiedBy>
  <cp:lastPrinted>1998-05-07T13:03:24Z</cp:lastPrinted>
  <dcterms:modified xsi:type="dcterms:W3CDTF">1998-05-26T13:38:34Z</dcterms:modified>
  <cp:revision>123</cp:revision>
  <dc:subject/>
  <dc:title>No Slide Title</dc:title>
</cp:coreProperties>
</file>